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D5A-0C1C-4C31-9161-A465F9CC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EC4-35B8-4FF7-9B1C-26C72C76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59B-F646-4C1A-AC93-2846C9E6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582-47E9-4860-B26C-9360DD2D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A04-0FD9-483C-BC82-A53F17A0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9A0-4BF7-45B9-9FDF-46AA785A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928-A08C-463F-BA43-601817F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E15-E30E-4F94-B0CC-FA8D7CFD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139-C69E-4F27-B534-B15F57F4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39F-1D23-4C47-B154-2BCB7C63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1FC-1E77-4C79-8E2A-49138932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F40-A789-4132-BA58-8FA7E73F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5AC0-9355-4042-8837-BC2B5EBFF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, Green and Blue are the primary colors of light.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can combine to make most other 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Promar Colors rgb"/>
          <p:cNvPicPr/>
          <p:nvPr/>
        </p:nvPicPr>
        <p:blipFill>
          <a:blip r:embed="rId1"/>
          <a:stretch/>
        </p:blipFill>
        <p:spPr>
          <a:xfrm>
            <a:off x="2209680" y="2590920"/>
            <a:ext cx="400860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mary colors of Pigments (paints. Dyes et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be blue, yellow and red (before 195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s cyan, yellow and mag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nd blue are not primary, because we now have pigments to make them from CM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MY ink can be used as the primary pigment palette to make secondary RG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my Primary Colors"/>
          <p:cNvPicPr/>
          <p:nvPr/>
        </p:nvPicPr>
        <p:blipFill>
          <a:blip r:embed="rId1"/>
          <a:stretch/>
        </p:blipFill>
        <p:spPr>
          <a:xfrm>
            <a:off x="1752480" y="1143000"/>
            <a:ext cx="4114800" cy="3390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80880" y="4575240"/>
            <a:ext cx="8305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 can then make secondary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 ink could never make a good cyan, magenta or yellow, so CMY ink serves as a superior set of primary colors over the traditional RGB. It’s a lighter palet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-c6578d"/>
          <p:cNvPicPr/>
          <p:nvPr/>
        </p:nvPicPr>
        <p:blipFill>
          <a:blip r:embed="rId2"/>
          <a:stretch/>
        </p:blipFill>
        <p:spPr>
          <a:xfrm>
            <a:off x="7086600" y="1295280"/>
            <a:ext cx="1778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 colored beams of light firing in your monitor or TV.  Rather the screen is coated with 3 layer of phosphorescent powder per pixel; each if hit by an electron beam glows either red, green or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rgbScreenComp"/>
          <p:cNvPicPr/>
          <p:nvPr/>
        </p:nvPicPr>
        <p:blipFill>
          <a:blip r:embed="rId1"/>
          <a:stretch/>
        </p:blipFill>
        <p:spPr>
          <a:xfrm>
            <a:off x="990720" y="2971800"/>
            <a:ext cx="69469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e all hav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GB monit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sing additive color mix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MY print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sing subtractive color mixing.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a conversion code to make the 3 color pixel combinations print the equivalent 3 color ink applications so images print as they are on the machi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ngs appear the color the reflect. They absorb all other col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124080" y="4572000"/>
            <a:ext cx="1219320" cy="990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8080" y="3200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YGB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934320" y="457200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4572000"/>
            <a:ext cx="121896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600200" y="4572000"/>
            <a:ext cx="12193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0:20:23Z</dcterms:created>
  <dc:creator>Michael Francesco</dc:creator>
  <dc:description/>
  <dc:language>en-US</dc:language>
  <cp:lastModifiedBy>"%username%"</cp:lastModifiedBy>
  <dcterms:modified xsi:type="dcterms:W3CDTF">2014-04-21T18:14:12Z</dcterms:modified>
  <cp:revision>10</cp:revision>
  <dc:subject/>
  <dc:title>CMY ink can be used as the primary pigment palette to make secondary RGB</dc:title>
</cp:coreProperties>
</file>